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3EE8-7EA8-4592-9C21-BA5E9C6F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E1B-6EE9-4FC2-A9CF-638054E0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567-802D-4DA7-A224-09248015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A72-A986-4ABB-973D-04482370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B683-334B-49E0-8F70-DB82FAFC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12D3-B6F4-4D59-9F4F-B703660B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D677-B90E-459C-AA27-4217AE44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ADCB-A1B4-4BBF-AC81-6B9E6F8F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8E9F-C516-4D6B-9D59-F457702F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9D6F-2315-40DB-AEEE-2D9C495E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2807-7E19-47E8-AE86-B6AD6B1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D92-4E6F-48B6-89F0-D6CE349F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D53-A5C4-4AD3-98C1-856D91A2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8E13-81E0-42F1-B612-2C96E06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5072-514E-4DC5-8758-0D75C19B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E9CD-C5D8-4753-9508-0934E688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5A82-70BE-43B4-BAEF-F0D09163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101-F934-49A2-9EAF-0B1F9B46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E4D-176D-4ADE-8A8A-CDE27FF2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F06-3E99-4346-99CB-00997920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C7B-0F92-4B71-9526-43B02D33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A1F-50AC-40AB-8B05-5369A0D7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BC9-5704-428D-B220-EAE9381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5E0-228B-4C85-912F-24DBA908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4A8A-9910-4713-A618-AE6D7B3C8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DF52-F71A-412A-B366-1B6CADC12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Westernové ježdění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2057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ula Černochová, 1.B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hist-qh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7339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21304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00200" y="48765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www.google.c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bráz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he%20end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70866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76520" y="14475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zniklo v 19. Století v S Americe během dobytkářské é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quarter-horse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37339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O westernovém ježdění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00200" y="16761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větví, v němž nejde jen o jezdecký styl, ale o odlišný způsob práce s koně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prvním místě je postaveno partnerství člověka a koně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hn_cowboy_new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33526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ýbava jezd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2514600" cy="207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2520" y="2895480"/>
            <a:ext cx="2190600" cy="3505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480" y="1599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ávně upevně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hodl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477120" y="2971800"/>
            <a:ext cx="2361960" cy="1793880"/>
            <a:chOff x="6477120" y="2971800"/>
            <a:chExt cx="2361960" cy="179388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6477120" y="2971800"/>
              <a:ext cx="236196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6477120" y="2971800"/>
              <a:ext cx="2361960" cy="179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ýbava koně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880" y="13712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í dobře padnout-neodře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le typu koně (velikost, a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238896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uzda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439640" cy="2666880"/>
          </a:xfrm>
          <a:prstGeom prst="rect">
            <a:avLst/>
          </a:prstGeom>
          <a:ln w="0">
            <a:noFill/>
          </a:ln>
        </p:spPr>
      </p:pic>
      <p:pic>
        <p:nvPicPr>
          <p:cNvPr id="110" name="shoupad" descr=""/>
          <p:cNvPicPr/>
          <p:nvPr/>
        </p:nvPicPr>
        <p:blipFill>
          <a:blip r:embed="rId3"/>
          <a:stretch/>
        </p:blipFill>
        <p:spPr>
          <a:xfrm>
            <a:off x="5638680" y="2895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21304"/>
                </a:solidFill>
                <a:latin typeface="Times New Roman"/>
              </a:rPr>
              <a:t>Western pleasu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828800" y="1599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21304"/>
                </a:solidFill>
                <a:latin typeface="Times New Roman"/>
              </a:rPr>
              <a:t>skupina koní s jezdci vjede do arén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21304"/>
                </a:solidFill>
                <a:latin typeface="Times New Roman"/>
              </a:rPr>
              <a:t>všichni koně dohromady dle pokynů rozhodčího se pohybují po obvodu arén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21304"/>
                </a:solidFill>
                <a:latin typeface="Times New Roman"/>
              </a:rPr>
              <a:t>postupně v obou směre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21304"/>
                </a:solidFill>
                <a:latin typeface="Times New Roman"/>
              </a:rPr>
              <a:t>na konci soutěže jeden po druhém couvá</a:t>
            </a:r>
            <a:br>
              <a:rPr sz="2500"/>
            </a:br>
            <a:r>
              <a:rPr b="0" lang="en-US" sz="25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leasur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312444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21304"/>
                </a:solidFill>
                <a:latin typeface="Times New Roman"/>
              </a:rPr>
              <a:t>Western horsemanshi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00200" y="16761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konalost a neznatelnost pomůcek jez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ztah mezi jezdcem a koně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mná komunikace mezi partn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horseman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4572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21304"/>
                </a:solidFill>
                <a:latin typeface="Times New Roman"/>
              </a:rPr>
              <a:t>Tra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3200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ekonávání překážek  v aréně (můstky, kavalety, branky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áročná disciplína, jde o přesnost každého kr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ůň musí být pod kontrolou po celou dobu jíz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trail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098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21304"/>
                </a:solidFill>
                <a:latin typeface="Times New Roman"/>
              </a:rPr>
              <a:t>Rei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23880" y="1447560"/>
            <a:ext cx="70106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ím slovem westernová drezůra, „královská disciplína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ůň musí být ochotný a mít v sobě jisk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tlivé cviky musí být precizní a sviž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liding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7:06:48Z</dcterms:created>
  <dc:creator>Venda</dc:creator>
  <dc:description/>
  <dc:language>en-US</dc:language>
  <cp:lastModifiedBy>Venda</cp:lastModifiedBy>
  <dcterms:modified xsi:type="dcterms:W3CDTF">2009-05-26T20:42:05Z</dcterms:modified>
  <cp:revision>9</cp:revision>
  <dc:subject/>
  <dc:title>Westernové ježdění</dc:title>
</cp:coreProperties>
</file>