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4473-B04F-4E9D-BA4A-4494E12BA0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Pokud je kůň schopen opravdové lásky k člověku,pak právě Appaloosa má k tomu nejblíž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894-95FF-447C-B8E5-A918C159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543-481B-4A01-9805-C682C19F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512-C957-4F36-B54E-D1E6D944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3C4-BF9B-41E8-8E74-5A6C1C55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34E3-0DCF-4B58-BD26-ADD091E8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57FB-77D6-45C6-8AE2-83A2D2F6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425C-6325-4745-8808-DEEE575B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C657-AB41-43E5-8516-025002A4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8F55-ABFA-436E-8739-27093F79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294B-2162-4BBC-BEBF-9524BC87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D8FB-05CD-4CF6-8FDD-2937C047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A26-FAE5-411D-8430-ED39DDD5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500E-8B0F-46CD-8A61-F37393A8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DC36-2E68-4E8B-80FB-661E1EB9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9CC7-EF6D-4CFA-8125-D570A9CF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36FC-940C-49E2-B427-F29E7806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8E80-A8E6-4B9A-8D78-393558AA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3B9F-D30F-4EF0-9617-CFB23921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CE5-F383-43BD-9201-31C427F5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E14-FEEF-4777-9229-302B6C7C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10A-1DB3-404A-971C-CB9D97EE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3DF-76D4-4239-8B00-47C6A231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E82-B376-4C36-BDB7-C574029B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AD88-6D02-4704-A49A-0B54F779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5669-82FB-47D5-8C89-F41EAAF67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36A0-14F6-41F2-B4D8-0E4651804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merican-quarter-horses.cz/fotog.php?gid=158&amp;id=2165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0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www.ika.estranky.cz/fotoalbum/zavody/peppy-golden-scooter/original/7" TargetMode="External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d.blog.cz/k/konitschci.blog.cz/obrazky/9601057.jpg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2b01"/>
            </a:gs>
            <a:gs pos="50000">
              <a:srgbClr val="bb5f03"/>
            </a:gs>
            <a:gs pos="100000">
              <a:srgbClr val="562b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Westernové ježdění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 očích veřejnosti je westernové ježdění "to, když hodíte na koně sedlo a jedete na pár dní pod širák", případně "to, kde honí na koni krávy a chytají je do lasa". Westernové ježdění je velmi všestranné odvětví jezdeckého sportu.Od ostatních odvětví se liší zejména uvolněnou komunikací a zacházením s koňmi a dobrou spoluprací mezi jezdcem a koně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Kliknutím se posunete na další fotku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1484280"/>
            <a:ext cx="331308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statní disciplín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arrel race, pole bending, cutting, workin cow horse,freestyle reining, team penning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http://www.crea-web.ch/tramelan/w_riding/barrel_race.gif"/>
          <p:cNvPicPr/>
          <p:nvPr/>
        </p:nvPicPr>
        <p:blipFill>
          <a:blip r:embed="rId1"/>
          <a:stretch/>
        </p:blipFill>
        <p:spPr>
          <a:xfrm rot="20046600">
            <a:off x="0" y="3068640"/>
            <a:ext cx="3384720" cy="2273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http://www.ebarrelracing.com/organizations/casey/images/horse.jpg"/>
          <p:cNvPicPr/>
          <p:nvPr/>
        </p:nvPicPr>
        <p:blipFill>
          <a:blip r:embed="rId2"/>
          <a:stretch/>
        </p:blipFill>
        <p:spPr>
          <a:xfrm rot="1034400">
            <a:off x="6732720" y="2637000"/>
            <a:ext cx="2914560" cy="2504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http://www.j-h.cz/konikove/jezdecky_sport/western/polebending.gif"/>
          <p:cNvPicPr/>
          <p:nvPr/>
        </p:nvPicPr>
        <p:blipFill>
          <a:blip r:embed="rId3"/>
          <a:stretch/>
        </p:blipFill>
        <p:spPr>
          <a:xfrm rot="1109400">
            <a:off x="4211640" y="2781000"/>
            <a:ext cx="1873080" cy="1522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http://www.bluequarter.net/images/cutscenebw.gif"/>
          <p:cNvPicPr/>
          <p:nvPr/>
        </p:nvPicPr>
        <p:blipFill>
          <a:blip r:embed="rId4"/>
          <a:stretch/>
        </p:blipFill>
        <p:spPr>
          <a:xfrm rot="786000">
            <a:off x="755280" y="5589720"/>
            <a:ext cx="2160720" cy="1081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http://www.j-h.cz/konikove/jezdecky_sport/western/cutting.gif"/>
          <p:cNvPicPr/>
          <p:nvPr/>
        </p:nvPicPr>
        <p:blipFill>
          <a:blip r:embed="rId5"/>
          <a:stretch/>
        </p:blipFill>
        <p:spPr>
          <a:xfrm>
            <a:off x="3132000" y="4597560"/>
            <a:ext cx="3529080" cy="2260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http://www.wd-ranch.com/images/team_penning.gif"/>
          <p:cNvPicPr/>
          <p:nvPr/>
        </p:nvPicPr>
        <p:blipFill>
          <a:blip r:embed="rId6"/>
          <a:stretch/>
        </p:blipFill>
        <p:spPr>
          <a:xfrm rot="20095200">
            <a:off x="6804000" y="5589360"/>
            <a:ext cx="2160720" cy="961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http://www.quarter-horse-fun.de/bilder/konstruktion/reiner.gif"/>
          <p:cNvPicPr/>
          <p:nvPr/>
        </p:nvPicPr>
        <p:blipFill>
          <a:blip r:embed="rId7"/>
          <a:stretch/>
        </p:blipFill>
        <p:spPr>
          <a:xfrm rot="531600">
            <a:off x="3276360" y="3573360"/>
            <a:ext cx="1218960" cy="1104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http://www.j-h.cz/konikove/jezdecky_sport/western/workincow.gif"/>
          <p:cNvPicPr/>
          <p:nvPr/>
        </p:nvPicPr>
        <p:blipFill>
          <a:blip r:embed="rId8"/>
          <a:stretch/>
        </p:blipFill>
        <p:spPr>
          <a:xfrm rot="21024600">
            <a:off x="0" y="2276280"/>
            <a:ext cx="1476360" cy="1176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Vhodná plemena koní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merican Quarter h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oblíbeno pro svou inteligenci, přirozenou vyrovnanost a všestrannost. Quarter horses vynikají mohutným a dokonale osvaleným tělem, mají vynikající rovnováhu a atletické schopnosti, to jim umožňuje provádět nejnáročnější prvky ve westernových disciplínác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Obrazek"/>
          <p:cNvPicPr/>
          <p:nvPr/>
        </p:nvPicPr>
        <p:blipFill>
          <a:blip r:embed="rId1"/>
          <a:stretch/>
        </p:blipFill>
        <p:spPr>
          <a:xfrm>
            <a:off x="4716360" y="1989000"/>
            <a:ext cx="3745080" cy="4680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Obrazek"/>
          <p:cNvPicPr/>
          <p:nvPr/>
        </p:nvPicPr>
        <p:blipFill>
          <a:blip r:embed="rId2"/>
          <a:stretch/>
        </p:blipFill>
        <p:spPr>
          <a:xfrm>
            <a:off x="539640" y="4581360"/>
            <a:ext cx="3527640" cy="2087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Q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1" name="" descr="Obrazek"/>
          <p:cNvPicPr/>
          <p:nvPr/>
        </p:nvPicPr>
        <p:blipFill>
          <a:blip r:embed="rId1"/>
          <a:stretch/>
        </p:blipFill>
        <p:spPr>
          <a:xfrm rot="21412800">
            <a:off x="2987640" y="1484280"/>
            <a:ext cx="2857680" cy="2743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Obrazek"/>
          <p:cNvPicPr/>
          <p:nvPr/>
        </p:nvPicPr>
        <p:blipFill>
          <a:blip r:embed="rId2"/>
          <a:stretch/>
        </p:blipFill>
        <p:spPr>
          <a:xfrm rot="21362400">
            <a:off x="4462560" y="4516560"/>
            <a:ext cx="4681440" cy="2341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Obrazek"/>
          <p:cNvPicPr/>
          <p:nvPr/>
        </p:nvPicPr>
        <p:blipFill>
          <a:blip r:embed="rId3"/>
          <a:stretch/>
        </p:blipFill>
        <p:spPr>
          <a:xfrm rot="266400">
            <a:off x="5936760" y="691920"/>
            <a:ext cx="3206880" cy="3357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Obrazek"/>
          <p:cNvPicPr/>
          <p:nvPr/>
        </p:nvPicPr>
        <p:blipFill>
          <a:blip r:embed="rId4"/>
          <a:stretch/>
        </p:blipFill>
        <p:spPr>
          <a:xfrm rot="384000">
            <a:off x="0" y="18864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Holly"/>
          <p:cNvPicPr/>
          <p:nvPr/>
        </p:nvPicPr>
        <p:blipFill>
          <a:blip r:embed="rId5"/>
          <a:stretch/>
        </p:blipFill>
        <p:spPr>
          <a:xfrm rot="21215400">
            <a:off x="394920" y="2133720"/>
            <a:ext cx="2016000" cy="2305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900000" y="4324320"/>
            <a:ext cx="32194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Appaloos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užívá se jako rodinný kůň velmi klidné přátelské povahy se zájmem spolupracovat s člověkem.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2347920"/>
            <a:ext cx="3176280" cy="4510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743280" y="3068640"/>
            <a:ext cx="5400720" cy="3597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Paint Hors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314360"/>
            <a:ext cx="3792600" cy="554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216400" y="1197000"/>
            <a:ext cx="3927600" cy="4606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916360" y="2465280"/>
            <a:ext cx="36367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egendy koní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llywood Dun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Hoollyw....."/>
          <p:cNvPicPr/>
          <p:nvPr/>
        </p:nvPicPr>
        <p:blipFill>
          <a:blip r:embed="rId1"/>
          <a:stretch/>
        </p:blipFill>
        <p:spPr>
          <a:xfrm>
            <a:off x="0" y="1773360"/>
            <a:ext cx="1619280" cy="21477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Holly"/>
          <p:cNvPicPr/>
          <p:nvPr/>
        </p:nvPicPr>
        <p:blipFill>
          <a:blip r:embed="rId2"/>
          <a:stretch/>
        </p:blipFill>
        <p:spPr>
          <a:xfrm>
            <a:off x="0" y="3933720"/>
            <a:ext cx="1592280" cy="2016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HD"/>
          <p:cNvPicPr/>
          <p:nvPr/>
        </p:nvPicPr>
        <p:blipFill>
          <a:blip r:embed="rId3"/>
          <a:stretch/>
        </p:blipFill>
        <p:spPr>
          <a:xfrm>
            <a:off x="4788000" y="1700280"/>
            <a:ext cx="4356000" cy="4176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Obrazek"/>
          <p:cNvPicPr/>
          <p:nvPr/>
        </p:nvPicPr>
        <p:blipFill>
          <a:blip r:embed="rId4"/>
          <a:stretch/>
        </p:blipFill>
        <p:spPr>
          <a:xfrm>
            <a:off x="1692360" y="1773360"/>
            <a:ext cx="3065400" cy="4178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egend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38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2467080" cy="3705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203640" y="2205000"/>
            <a:ext cx="2244600" cy="4032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495600" y="16995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CLUSIV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707080" y="765000"/>
            <a:ext cx="3436920" cy="5185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25440" y="18828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EPPY SAN BADGER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05440" y="333000"/>
            <a:ext cx="16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UAL PEPPY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826920" y="4437000"/>
            <a:ext cx="16700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úspěšní koně v Č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T MIGHTY JUNIO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Back"/>
          <p:cNvPicPr/>
          <p:nvPr/>
        </p:nvPicPr>
        <p:blipFill>
          <a:blip r:embed="rId1"/>
          <a:stretch/>
        </p:blipFill>
        <p:spPr>
          <a:xfrm>
            <a:off x="1258920" y="1989000"/>
            <a:ext cx="626436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Smart Chiconit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995640" y="1916280"/>
            <a:ext cx="4465800" cy="3085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Obrazek"/>
          <p:cNvPicPr/>
          <p:nvPr/>
        </p:nvPicPr>
        <p:blipFill>
          <a:blip r:embed="rId2"/>
          <a:stretch/>
        </p:blipFill>
        <p:spPr>
          <a:xfrm>
            <a:off x="250920" y="1197000"/>
            <a:ext cx="3556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Peppy Golden Scoo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85928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5092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Scoter"/>
          <p:cNvPicPr/>
          <p:nvPr/>
        </p:nvPicPr>
        <p:blipFill>
          <a:blip r:embed="rId1"/>
          <a:stretch/>
        </p:blipFill>
        <p:spPr>
          <a:xfrm>
            <a:off x="539640" y="1413000"/>
            <a:ext cx="3868920" cy="4968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Peppy Golden Scooter,ECQHA, Německo 200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1413000"/>
            <a:ext cx="3551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stori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sternový styl ježdění vznikl na rančích koncem 70. let 18.stolet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24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441600" cy="4608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92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Blackadder ITC"/>
              </a:rPr>
              <a:t>The en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wild hors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333080" cy="69246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276720" y="26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ffff"/>
                </a:solidFill>
                <a:latin typeface="Vivaldi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roč a jak vznikl western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sternové ježdění má původ ve využití koně jako pomocníka při práci s dobytkem. Ve zlaté éře kovbojů, kdy byl kůň jejich hlavní pracovní nástroj a pomocník, se formovaly požadavky na ideálního kovbojského koně. Musel být odolný a vytrvalý, aby zvládnul celodenní práci pod sedle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Obrazek"/>
          <p:cNvPicPr/>
          <p:nvPr/>
        </p:nvPicPr>
        <p:blipFill>
          <a:blip r:embed="rId1"/>
          <a:stretch/>
        </p:blipFill>
        <p:spPr>
          <a:xfrm>
            <a:off x="1476360" y="2781360"/>
            <a:ext cx="60483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isciplín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owmanship at hal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r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estern horsema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estern plea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uperho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estern ri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Obrazek"/>
          <p:cNvPicPr/>
          <p:nvPr/>
        </p:nvPicPr>
        <p:blipFill>
          <a:blip r:embed="rId1"/>
          <a:stretch/>
        </p:blipFill>
        <p:spPr>
          <a:xfrm>
            <a:off x="4859280" y="1628640"/>
            <a:ext cx="3119400" cy="482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Hal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číná seřazením všech soutěžících a koní vedle sebe a následným předváděním úlohy rozhodčím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767400" cy="4176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Obrazek"/>
          <p:cNvPicPr/>
          <p:nvPr/>
        </p:nvPicPr>
        <p:blipFill>
          <a:blip r:embed="rId2"/>
          <a:stretch/>
        </p:blipFill>
        <p:spPr>
          <a:xfrm>
            <a:off x="468360" y="3357720"/>
            <a:ext cx="42480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r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Trail tvoří celkem 6 překážek, z nichž 3 jso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ovinné (průchod brankou, překonání řady kavalet, couvání)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Nejlépe jsou hodnoceni koně, kteří si překonání překážky řeší sami, bez nebo jen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s minimálními pobídkami jezdce.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84720" y="2565360"/>
            <a:ext cx="2260800" cy="3716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2525760" cy="3213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Back"/>
          <p:cNvPicPr/>
          <p:nvPr/>
        </p:nvPicPr>
        <p:blipFill>
          <a:blip r:embed="rId3"/>
          <a:stretch/>
        </p:blipFill>
        <p:spPr>
          <a:xfrm>
            <a:off x="3348000" y="2708280"/>
            <a:ext cx="242424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Western horsemanship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 trase jsou kužely, které vyznačují místa, kde se mají jednotlivé prvky předvést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zhodčí hodnotí, jak přesně se dvojici podařilo úlohu splnit, posuzuje se sed jezdce, jemnost pobídek, reakce koně na pobídky, i vzhled (upravenost a čistotu) dvojice. Hodnocení je v rozsahu 0 - 20 bodů. Chybami se body ztrácí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3941280"/>
            <a:ext cx="822960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124000" y="3510000"/>
            <a:ext cx="4249800" cy="334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Western pleasur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10552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3373560"/>
            <a:ext cx="4643280" cy="348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4127400" cy="6237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Skupina koní s jezdci vjede do arény, kde se všechni koně dohromady dle pokynů rozhodčího pohybují po obvodu soutěžní arény krokem, klusem a cvalem, a to postupně v obou směrech.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Rein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Obrazek"/>
          <p:cNvPicPr/>
          <p:nvPr/>
        </p:nvPicPr>
        <p:blipFill>
          <a:blip r:embed="rId1"/>
          <a:stretch/>
        </p:blipFill>
        <p:spPr>
          <a:xfrm rot="290400">
            <a:off x="5435640" y="1773360"/>
            <a:ext cx="3206880" cy="4392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3809880" cy="2533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rot="696000">
            <a:off x="750600" y="342720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liding 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407520"/>
            <a:ext cx="34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Reining </a:t>
            </a:r>
            <a:r>
              <a:rPr b="0" i="1" lang="cs-CZ" sz="2400" spc="-1" strike="noStrike">
                <a:solidFill>
                  <a:srgbClr val="ffffff"/>
                </a:solidFill>
                <a:latin typeface="Vivaldi"/>
              </a:rPr>
              <a:t>je jednoduše westernovou drezúrou a disciplínou vpravdě královskou</a:t>
            </a:r>
            <a:r>
              <a:rPr b="0" lang="cs-CZ" sz="2400" spc="-1" strike="noStrike">
                <a:solidFill>
                  <a:srgbClr val="ffffff"/>
                </a:solidFill>
                <a:latin typeface="Vivaldi"/>
              </a:rPr>
              <a:t>.Jde tam o dynamiku a přesnost provedení koně ve vybrané úloze,kterou vyberou rozhodčí z pravid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0:12:14Z</dcterms:created>
  <dc:creator>cernve00</dc:creator>
  <dc:description/>
  <dc:language>en-US</dc:language>
  <cp:lastModifiedBy>cernve00</cp:lastModifiedBy>
  <dcterms:modified xsi:type="dcterms:W3CDTF">2008-05-13T10:44:25Z</dcterms:modified>
  <cp:revision>7</cp:revision>
  <dc:subject/>
  <dc:title>Snímek 1</dc:title>
</cp:coreProperties>
</file>